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AFECD3-6233-41FF-94E6-5AADBEE878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5B992F-48F2-443D-9AF3-F7ABAE03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941619-0F50-46ED-9F06-B22A2C7573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BCD937-250D-4157-B1B2-1E5D5253A9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962000" y="617400"/>
            <a:ext cx="2724480" cy="2043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8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0BC17A-4A09-4B20-ACAD-16756F2060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5A1BE8-036F-49C4-A3F4-8E6261CCBD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4FA279-DF29-4F3D-9070-5183D4E34F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B26FAE-5CC2-4D85-8270-A60E602515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2D7326-E752-4A3D-8180-6FB7A7672C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4A7BB0-FA4E-486F-976E-306ADFECB0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3A9D81-6CC2-4DAD-A8D0-EA71FEEAC7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F51C37-F2C8-41C4-B7A4-D1E6573B93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CE5FCE-C622-4BB0-9AEA-AE20A09707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936800" y="598320"/>
            <a:ext cx="2776320" cy="2082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7E9838-EDE4-4D06-B0C9-00A636B02D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7600" cy="3419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10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he perspective of the individual achieving a certification, there are four interrelated reasons why individuals want to attain a certifica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knowledge or skil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presti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marketa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compen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viously, by virtue of going through the educational process and completing the knowledge and/or skill demonstration required by a certification, the individual will have gained in knowledge and/or skill. From an interpersonal standpoint, this designation should translate into higher levels of prestige within the individual’s profession. But, perhaps more importantly from the individual’s perspective, the attainment of a certification and the accompanying acknowledgement of knowledge and/or skills acquired should translate into increased ability to move within the profession either laterally within or between organizations or vertically to higher-level position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lly, with the attainment of a certification and the acknowledgement of knowledge and skills acquired a justification for increases in compensation exists. And, in fact, most organization, recognize that the attainment of the better known and more applicable certifications do translate into increases in compens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777378-B0B9-4E3F-9A27-FC3F59A17C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936800" y="598320"/>
            <a:ext cx="2776320" cy="2082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BCFB53-65D0-4ABB-B7D8-272FFC169F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FAEC50-5712-4A8B-AF1B-FE85681EDA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AC5225-5CD3-4EC8-A3E4-B801C6FEE7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5F6845-5EC6-46AD-83BA-AFB5FEBEE3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3E76-71A3-4838-A64A-38E7E578E19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0AD0-6A25-458E-85A1-E26A9CA1CBC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9994-5404-4909-B62F-3000ED74494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A0B7-93DC-41EA-913C-0629224ACF4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8B9-3FA9-4C14-AE33-D2CFC31E2DA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E4E2-A0A3-46DF-AEC3-8AF4C0E362A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5FDE-4F66-4648-95BF-2D3C4D28214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E864-4176-4C2A-BF0E-EC45A2AEABF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006B104E-953F-4C22-8E67-9003188644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L6%20Software%20quality.ppt" TargetMode="External"/><Relationship Id="rId2" Type="http://schemas.openxmlformats.org/officeDocument/2006/relationships/hyperlink" Target="file:///Using%20PSP2.ppt" TargetMode="External"/><Relationship Id="rId3" Type="http://schemas.openxmlformats.org/officeDocument/2006/relationships/hyperlink" Target="file:///ASGKIT%20PROG5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Week2Day7/L7%20Software%20Design%20I.ppt" TargetMode="External"/><Relationship Id="rId2" Type="http://schemas.openxmlformats.org/officeDocument/2006/relationships/hyperlink" Target="file:///../Week2Day7/Using%20PSP2.1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990720" y="19652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Course Overview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learn the PSP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ng the assigned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ing the class lectures, tutorials, and worksh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ng th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plan to spend two weeks of classroom time and a few additional days outside of class to complete the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tudent is expected to make this commi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nd Rules for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17360" y="1709640"/>
            <a:ext cx="741348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here on time; we will start on tim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 all sessions; discuss any exceptions with instru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this room a “quiet zone” during lab periods; move conversations out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use the PSP techniques and methods on the assignments. Your goal is to learn the process, not just to write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n in assignments that are correct, complete, and in the proper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17720" y="1709640"/>
          <a:ext cx="7413480" cy="399600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38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84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over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1"/>
                        </a:rPr>
                        <a:t>L6. Software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43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2"/>
                        </a:rPr>
                        <a:t>Using PSP2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3"/>
                        </a:rPr>
                        <a:t>Program 5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17720" y="1709640"/>
          <a:ext cx="7413480" cy="366732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6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1"/>
                        </a:rPr>
                        <a:t>L7. Software Design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2"/>
                        </a:rPr>
                        <a:t>Using PSP2.1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6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17720" y="1709640"/>
          <a:ext cx="7413480" cy="349884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. Software design II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machine verification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7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017720" y="1709640"/>
          <a:ext cx="7413480" cy="364500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615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. Design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verification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8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8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17720" y="1709640"/>
          <a:ext cx="7413480" cy="401976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0. Using the P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report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feedback and 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o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Course Ho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unfinished program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Course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017720" y="1709640"/>
          <a:ext cx="7413480" cy="98280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53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stimated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5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or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logistics and building 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language you will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Course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software process course.  The objectiv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e you to a process-based approach for developing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measure and analyze your personal software process (PS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use process data to improve your personal perform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apply these methods to other structured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1136520"/>
            <a:ext cx="4103640" cy="5294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06200" y="966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-Certified PSP Develo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1600" y="1747800"/>
            <a:ext cx="47926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-certified professionals will realize an increas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52840" y="4273200"/>
            <a:ext cx="5216400" cy="1662120"/>
          </a:xfrm>
          <a:prstGeom prst="rect">
            <a:avLst/>
          </a:prstGeom>
          <a:solidFill>
            <a:srgbClr val="dfdbcb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ly or wrongly, companies place a value on certification, and it will up your salar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W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pri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Cours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a programming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the pre-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read simple formal no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development enviro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oft Word, Excel and Access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SP Part I: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 to PSP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SP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80024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SP Part II: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machine desig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TS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course reading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course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cture:  review key topics from text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or report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-course 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ctors that affect your evaluation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the data that you sub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leteness and consistency of your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erence to the proper order and format of assignment sub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analysis of your PSP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 Avail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ors will be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class hours each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class by phone or e-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3:50Z</dcterms:modified>
  <cp:revision>139</cp:revision>
  <dc:subject/>
  <dc:title>No Slide Title</dc:title>
</cp:coreProperties>
</file>